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embeddings/oleObject4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463D7-E438-41F0-812C-80141AD1C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C2CE0-D7F1-45B7-9A97-51EF07957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46D3C-6E6A-4D45-A008-BDC8C22F0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9A49E-2912-4927-A430-6C4D65969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67F8F-E5F5-4A02-9471-01CB2B7FC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01DF8-37D5-429D-9A41-47875F9E3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C39FF-27E1-479B-951F-A1299F44E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E264B-DCE9-46F3-9DA8-A3405936B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AAFE0-8506-4451-9238-33B655B9F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4D2EF-07D7-4EDC-9B4F-84AE89EE6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D6557-FA16-44B3-8571-67410FDEE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B39D7-1470-4D0B-BB6B-6EC2D5449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1C76A-A0C8-4E7C-B3E5-155936155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C7464-74A2-4CDD-B45B-67F1FA1F0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708F1-82A7-4ADB-B599-9F8CCFF9C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E2E1D-BA49-419E-853D-E50A2FFFA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3AE97-6189-4F59-B1B7-0C09B906F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E30AE-5186-4356-9F85-C1A5CDB21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69F0A-6504-4D33-9434-AA5F1B1B2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D6CAE-EE19-4EA8-BF14-66FDFEDFF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B8B78-0DBB-4B6F-A8CD-2F69C1D14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990DE-84D5-4212-A792-97E0866DA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404AA-8BDC-4A5D-94A3-4EDE2549E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F0B45-6541-47DB-82D0-477B287E5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63B00-DDD1-4F02-BF44-F3388A1D85A7}" type="datetime"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256B3-41F1-42A2-89C4-B3FF1803E36C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0FE27-094F-439E-9A16-78E425A37F75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36A9F-9E42-49AD-AE6D-C67843D99E95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3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4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5.wmf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ustering Techniques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What goes together?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Fuzzy Set Theory Basic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nventional set theory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erives from symbolic, two-valued (T/F) logic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epends upon binary decisions to determine set membership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uzzy set theor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ermits continuous valued grading of set membership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llows for reasoning subject to imprecision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AFT: Copyright G A Tagliarini, Ph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3ED05-9951-433C-A596-460EA51F1E5B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7D30DD-170A-4EC7-8790-9404D54ADB5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Fuzzy Set Theory Basic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ssume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 domain of discourse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with entities generically denoted by x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 fuzzy set A is a set of ordered pair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 = { (x, m</a:t>
            </a:r>
            <a:r>
              <a:rPr b="0" lang="en-US" sz="2400" spc="-1" strike="noStrike" baseline="-25000">
                <a:solidFill>
                  <a:srgbClr val="003366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(x)) | x </a:t>
            </a: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}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here m</a:t>
            </a:r>
            <a:r>
              <a:rPr b="0" lang="en-US" sz="2400" spc="-1" strike="noStrike" baseline="-25000">
                <a:solidFill>
                  <a:srgbClr val="003366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(x) is the fuzzy </a:t>
            </a:r>
            <a:r>
              <a:rPr b="0" i="1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membership function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(MF) for A and 0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≤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</a:t>
            </a:r>
            <a:r>
              <a:rPr b="0" lang="en-US" sz="2400" spc="-1" strike="noStrike" baseline="-25000">
                <a:solidFill>
                  <a:srgbClr val="003366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(x) 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≤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AFT: Copyright G A Tagliarini, Ph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6F8C1-7430-47AB-ACE8-B4120873FF05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3DE4F4-768E-44E4-A47A-AA95CC66EB2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Fuzzy Set Theory Basic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3366"/>
                </a:solidFill>
                <a:latin typeface="Arial Unicode MS"/>
                <a:ea typeface="Arial Unicode MS"/>
              </a:rPr>
              <a:t>⊆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 (A is a </a:t>
            </a:r>
            <a:r>
              <a:rPr b="1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subset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of B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f and only if m</a:t>
            </a:r>
            <a:r>
              <a:rPr b="0" lang="en-US" sz="2400" spc="-1" strike="noStrike" baseline="-25000">
                <a:solidFill>
                  <a:srgbClr val="003366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(x)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≤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</a:t>
            </a:r>
            <a:r>
              <a:rPr b="0" lang="en-US" sz="2400" spc="-1" strike="noStrike" baseline="-25000">
                <a:solidFill>
                  <a:srgbClr val="003366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(x) </a:t>
            </a:r>
            <a:r>
              <a:rPr b="0" lang="en-US" sz="2400" spc="-1" strike="noStrike">
                <a:solidFill>
                  <a:srgbClr val="003366"/>
                </a:solidFill>
                <a:latin typeface="Arial Unicode MS"/>
                <a:ea typeface="Arial Unicode MS"/>
              </a:rPr>
              <a:t>∀ x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 = A</a:t>
            </a:r>
            <a:r>
              <a:rPr b="0" lang="en-US" sz="2800" spc="-1" strike="noStrike">
                <a:solidFill>
                  <a:srgbClr val="003366"/>
                </a:solidFill>
                <a:latin typeface="Arial Unicode MS"/>
                <a:ea typeface="Arial Unicode MS"/>
              </a:rPr>
              <a:t>⋂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 (C is the </a:t>
            </a:r>
            <a:r>
              <a:rPr b="1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intersection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of A with B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here m</a:t>
            </a:r>
            <a:r>
              <a:rPr b="0" lang="en-US" sz="2400" spc="-1" strike="noStrike" baseline="-25000">
                <a:solidFill>
                  <a:srgbClr val="003366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(x)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= min(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</a:t>
            </a:r>
            <a:r>
              <a:rPr b="0" lang="en-US" sz="2400" spc="-1" strike="noStrike" baseline="-25000">
                <a:solidFill>
                  <a:srgbClr val="003366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(x) ,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</a:t>
            </a:r>
            <a:r>
              <a:rPr b="0" lang="en-US" sz="2400" spc="-1" strike="noStrike" baseline="-25000">
                <a:solidFill>
                  <a:srgbClr val="003366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(x)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 = A</a:t>
            </a:r>
            <a:r>
              <a:rPr b="0" lang="en-US" sz="2800" spc="-1" strike="noStrike">
                <a:solidFill>
                  <a:srgbClr val="003366"/>
                </a:solidFill>
                <a:latin typeface="Arial Unicode MS"/>
                <a:ea typeface="Arial Unicode MS"/>
              </a:rPr>
              <a:t>⋃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 (C is the </a:t>
            </a:r>
            <a:r>
              <a:rPr b="1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union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of A with B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here m</a:t>
            </a:r>
            <a:r>
              <a:rPr b="0" lang="en-US" sz="2400" spc="-1" strike="noStrike" baseline="-25000">
                <a:solidFill>
                  <a:srgbClr val="003366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(x)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= max(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</a:t>
            </a:r>
            <a:r>
              <a:rPr b="0" lang="en-US" sz="2400" spc="-1" strike="noStrike" baseline="-25000">
                <a:solidFill>
                  <a:srgbClr val="003366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(x) ,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</a:t>
            </a:r>
            <a:r>
              <a:rPr b="0" lang="en-US" sz="2400" spc="-1" strike="noStrike" baseline="-25000">
                <a:solidFill>
                  <a:srgbClr val="003366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(x)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</a:t>
            </a:r>
            <a:r>
              <a:rPr b="0" lang="en-US" sz="2800" spc="-1" strike="noStrike" baseline="30000">
                <a:solidFill>
                  <a:srgbClr val="003366"/>
                </a:solidFill>
                <a:latin typeface="Arial"/>
              </a:rPr>
              <a:t>c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(A</a:t>
            </a:r>
            <a:r>
              <a:rPr b="0" lang="en-US" sz="2800" spc="-1" strike="noStrike" baseline="30000">
                <a:solidFill>
                  <a:srgbClr val="003366"/>
                </a:solidFill>
                <a:latin typeface="Arial"/>
              </a:rPr>
              <a:t>c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is the </a:t>
            </a:r>
            <a:r>
              <a:rPr b="1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complement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of A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here m</a:t>
            </a:r>
            <a:r>
              <a:rPr b="0" lang="en-US" sz="2400" spc="-1" strike="noStrike" baseline="-25000">
                <a:solidFill>
                  <a:srgbClr val="003366"/>
                </a:solidFill>
                <a:latin typeface="Arial"/>
              </a:rPr>
              <a:t>AC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(x)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= 1 -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</a:t>
            </a:r>
            <a:r>
              <a:rPr b="0" lang="en-US" sz="2400" spc="-1" strike="noStrike" baseline="-25000">
                <a:solidFill>
                  <a:srgbClr val="003366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(x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AFT: Copyright G A Tagliarini, Ph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B4A3B-D60B-4CC1-8274-890C08694D25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EEAD0A-33A9-40B8-827E-B8A59A2E597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Fuzzy Membership Functions and Set Operations Illustrated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990720" y="4343400"/>
          <a:ext cx="3600360" cy="1857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4343400"/>
                    <a:ext cx="3600360" cy="185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3" name=""/>
          <p:cNvGraphicFramePr/>
          <p:nvPr/>
        </p:nvGraphicFramePr>
        <p:xfrm>
          <a:off x="990720" y="2362320"/>
          <a:ext cx="3609720" cy="18669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90720" y="2362320"/>
                    <a:ext cx="3609720" cy="186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5" name=""/>
          <p:cNvGraphicFramePr/>
          <p:nvPr/>
        </p:nvGraphicFramePr>
        <p:xfrm>
          <a:off x="4800600" y="2362320"/>
          <a:ext cx="3610080" cy="186696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800600" y="2362320"/>
                    <a:ext cx="3610080" cy="186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7" name=""/>
          <p:cNvGraphicFramePr/>
          <p:nvPr/>
        </p:nvGraphicFramePr>
        <p:xfrm>
          <a:off x="4800600" y="4363920"/>
          <a:ext cx="3600360" cy="182880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800600" y="4363920"/>
                    <a:ext cx="360036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AFT: Copyright G A Tagliarini, PhD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CEE09-3268-4804-9B3D-EE3CB329DD43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6DC5EC-A954-4C89-B185-F459DDDB634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Fuzzy K-Means (FKM) Algorithm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usters n data vectors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x</a:t>
            </a:r>
            <a:r>
              <a:rPr b="0" lang="en-US" sz="2800" spc="-1" strike="noStrike" baseline="-25000">
                <a:solidFill>
                  <a:srgbClr val="003366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degree of membership in a cluster is specified by a fuzzy membership grad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ustering is into fuzzy se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uster centers arise by minimizing a cost function of dissimilarit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corresponding cluster assignment matrix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U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may have non binary entries 0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≤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U</a:t>
            </a:r>
            <a:r>
              <a:rPr b="0" lang="en-US" sz="2800" spc="-1" strike="noStrike" baseline="-25000">
                <a:solidFill>
                  <a:srgbClr val="003366"/>
                </a:solidFill>
                <a:latin typeface="Arial"/>
              </a:rPr>
              <a:t>rc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≤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1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AFT: Copyright G A Tagliarini, Ph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61DA7-C343-47C6-9ACA-8B4051F66AAC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50C2DA-D973-40CD-B05E-9E449EC1811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Normalizing The Cluster Assignment Matrix U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1590840" y="3540240"/>
                <a:ext cx="6410160" cy="121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r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k</m:t>
                        </m:r>
                      </m:sup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r</m:t>
                            </m:r>
                            <m:r>
                              <m:t xml:space="preserve">,</m:t>
                            </m:r>
                            <m:r>
                              <m:t xml:space="preserve">c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∀</m:t>
                    </m:r>
                    <m:r>
                      <m:rPr>
                        <m:lit/>
                        <m:nor/>
                      </m:rPr>
                      <m:t xml:space="preserve"> c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,n,  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FKM Eq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AFT: Copyright G A Tagliarini, PhD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BE2F9-A583-4732-82CC-3C6C4F1822EE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C6B9B1-3E25-4A49-A040-5CA3C1467A1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 Cost Func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1523880" y="2556000"/>
                <a:ext cx="6019920" cy="343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ost</m:t>
                        </m:r>
                        <m:r>
                          <m:t xml:space="preserve">(</m:t>
                        </m:r>
                        <m:r>
                          <m:t xml:space="preserve">U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…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k</m:t>
                            </m:r>
                          </m:sup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c</m:t>
                                </m:r>
                              </m:sub>
                              <m:sup/>
                              <m:e>
                                <m:sSubSup>
                                  <m:e>
                                    <m:r>
                                      <m:t xml:space="preserve">u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c</m:t>
                                    </m:r>
                                  </m:sub>
                                  <m:sup>
                                    <m:r>
                                      <m:t xml:space="preserve">m</m:t>
                                    </m:r>
                                  </m:sup>
                                </m:sSubSup>
                                <m:sSubSup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c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e>
                            </m:nary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FKM </m:t>
                        </m:r>
                        <m:r>
                          <m:rPr>
                            <m:lit/>
                            <m:nor/>
                          </m:rPr>
                          <m:t xml:space="preserve">Eq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2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where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0</m:t>
                        </m:r>
                        <m:r>
                          <m:t xml:space="preserve">≤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,c</m:t>
                            </m:r>
                          </m:sub>
                        </m:sSub>
                        <m:r>
                          <m:t xml:space="preserve">≤</m:t>
                        </m:r>
                        <m:r>
                          <m:t xml:space="preserve">1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is the cluster center of fuzzy group 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r</m:t>
                            </m:r>
                            <m:r>
                              <m:t xml:space="preserve">,</m:t>
                            </m:r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t xml:space="preserve">|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the Euclidean distance from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cluster center 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to data point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r>
                          <m:t xml:space="preserve">m</m:t>
                        </m:r>
                        <m:r>
                          <m:t xml:space="preserve">∈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∞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is a weighting exponent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AFT: Copyright G A Tagliarini, PhD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5990C-C208-4876-B5E4-D8A1ACCA2E36}" type="slidenum">
              <a:t>1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0CDBF9-1B5E-41D0-A5EA-9C4CA69D35A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Update Equation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2209680" y="2532240"/>
                <a:ext cx="4876920" cy="36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c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Sup>
                                  <m:e>
                                    <m:r>
                                      <m:t xml:space="preserve">u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c</m:t>
                                    </m:r>
                                  </m:sub>
                                  <m:sup>
                                    <m:r>
                                      <m:t xml:space="preserve">m</m:t>
                                    </m:r>
                                  </m:sup>
                                </m:sSubSup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c</m:t>
                                    </m:r>
                                  </m:sub>
                                </m:sSub>
                              </m:e>
                            </m:nary>
                          </m:num>
                          <m:den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c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Sup>
                                  <m:e>
                                    <m:r>
                                      <m:t xml:space="preserve">u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c</m:t>
                                    </m:r>
                                  </m:sub>
                                  <m:sup>
                                    <m:r>
                                      <m:t xml:space="preserve">m</m:t>
                                    </m:r>
                                  </m:sup>
                                </m:sSubSup>
                                <m:r>
                                  <m:t xml:space="preserve"> </m:t>
                                </m:r>
                              </m:e>
                            </m:nary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FKM Eq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3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r</m:t>
                            </m:r>
                            <m:r>
                              <m:t xml:space="preserve">,</m:t>
                            </m:r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j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k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f>
                                          <m:num>
                                            <m:sSub>
                                              <m:e>
                                                <m:r>
                                                  <m:t xml:space="preserve">d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  <m:r>
                                                  <m:t xml:space="preserve">,</m:t>
                                                </m:r>
                                                <m:r>
                                                  <m:t xml:space="preserve">c</m:t>
                                                </m:r>
                                              </m:sub>
                                            </m:sSub>
                                          </m:num>
                                          <m:den>
                                            <m:sSub>
                                              <m:e>
                                                <m:r>
                                                  <m:t xml:space="preserve">d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j</m:t>
                                                </m:r>
                                                <m:r>
                                                  <m:t xml:space="preserve">,</m:t>
                                                </m:r>
                                                <m:r>
                                                  <m:t xml:space="preserve">c</m:t>
                                                </m:r>
                                              </m:sub>
                                            </m:sSub>
                                          </m:den>
                                        </m:f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  <m:r>
                                      <m:t xml:space="preserve">(</m:t>
                                    </m:r>
                                    <m:r>
                                      <m:t xml:space="preserve">m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</m:e>
                            </m:nary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FKM Eq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4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AFT: Copyright G A Tagliarini, PhD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6FCF5-0D5E-41ED-879B-358FDA294C30}" type="slidenum">
              <a:t>1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7BE4CC-DA5F-49C4-9BE4-9842C32FA94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he Fuzzy K-Means Algorithm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itialize the cluster assignment matrix subject to FKM Eq. 1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alculate k fuzzy cluster centers using FKM Eq. 3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ompute the cost function using FKM Eq. 2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ompute a new cluster assignment matrix using FKM Eq. 4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ile (cost is decreasing “significantly”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AFT: Copyright G A Tagliarini, Ph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69FE6-38FA-4B51-88D6-CA1DB4537BE6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C9FCE8-9837-4BF1-85D4-4BE06B59A7E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Nearest Neighbor Algorithm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AFT: Copyright G A Tagliarini, Ph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AA687-046F-4F40-A137-AF2371A8EB8A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01552C-7EC9-4F0F-8EBC-C6296C18888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he Problem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514600" y="2430360"/>
          <a:ext cx="4495680" cy="3716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14600" y="2430360"/>
                    <a:ext cx="4495680" cy="371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AFT: Copyright G A Tagliarini, PhD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C1C5F-7832-4040-A750-0C579C594BB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F4BC4E-D93A-466A-B68E-E427E685B4F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Kohonen Network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AFT: Copyright G A Tagliarini, Ph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56F43-8DA7-449D-BD93-A843E298282A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CE5CEE-9569-4F39-BE0D-43EA2DADD91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daptive Resonance Theory (ART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ail Carpenter and Stephen Grossber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enter for Adaptive Systems, Boston Universit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RT 2: Self-organization of stable category recognition codes for analog input pattern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pplied Optics, Vol. 26, No. 23, pp. 4919-4930, 1 December 1987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AFT: Copyright G A Tagliarini, Ph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E1BB7-AFCF-4956-9AD0-81BFE18199B9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ECDC1D-A79E-4D48-8599-F15A999DFA5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esign Goals and Trade-Off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tability-Plasticity trade-off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arch-Direct Access trade-off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atch-Reset trade-off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TM invariance under readout of matched LTM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LTM readout and STM normalization coexis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No LTM recoding by superset input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table choice until rese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ontrast enhancement, noise suppression, and mismatch attenua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AFT: Copyright G A Tagliarini, Ph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55665-FEA7-4041-8730-D98D4E24F39C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A62469-8681-498B-9942-DCB42A3FCA2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ystem Architectur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AFT: Copyright G A Tagliarini, Ph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C4D59-2B83-4638-9841-44304F33A4CD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98916C-46CB-4B64-B132-70CE4CCE53B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ystem Equations: F1-Laye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AFT: Copyright G A Tagliarini, Ph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20334-F28A-4596-AE61-F44861BF057C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DF246D-29EB-4789-B51D-73718E262BF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ystem Equations: F2-Laye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AFT: Copyright G A Tagliarini, Ph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9383C-1482-4B73-B51A-989F065DA29B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CDC3C4-22B2-472E-B91C-479FB50EA3F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ystem Equations: Vigilanc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AFT: Copyright G A Tagliarini, Ph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16068-98B9-4CE6-896D-D95ECBCE20FC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0B86F0-FBBC-4577-BCC4-8D4C6A5BA69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System Equations: Long Term Memory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AFT: Copyright G A Tagliarini, Ph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F8F16-2FF5-447D-A3A3-539C173BCE92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D38255-A413-4865-B487-DFE49E40605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entral Issu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at does “similar” mean? Least squared differen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aximum pair-wise distanc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ow many classes “should” there be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ometimes the problem will dictate; 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e.g.,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classifying letters or numeral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ometimes there is no clear a priori knowledge; 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e.g.,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the operational states of a satellite, airplan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AFT: Copyright G A Tagliarini, Ph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06964-BC60-462B-8BB3-CC1EB38DC0B4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BE61B4-9A2C-4483-A30B-C22BD39CD12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pproach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K-mean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uzzy k-mean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earest neighbo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Kohonen network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daptive resonance theory (ART) network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AFT: Copyright G A Tagliarini, Ph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AAEC4-8CA7-484C-BBAF-B7DDDA54DA62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24063B-ABA0-400D-87E1-35581DEEA8D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A Representative K-Means Clustering Algorithm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hoose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 number of classes k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&gt; 0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nitial class “mean” vectors </a:t>
            </a:r>
            <a:r>
              <a:rPr b="1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 baseline="-25000">
                <a:solidFill>
                  <a:srgbClr val="003366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 baseline="-25000">
                <a:solidFill>
                  <a:srgbClr val="003366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, …, </a:t>
            </a:r>
            <a:r>
              <a:rPr b="1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 baseline="-25000">
                <a:solidFill>
                  <a:srgbClr val="003366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lassify entities by “nearest” mea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Update the means based upon the classifica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ile (</a:t>
            </a:r>
            <a:r>
              <a:rPr b="0" lang="en-US" sz="2800" spc="-1" strike="noStrike">
                <a:solidFill>
                  <a:srgbClr val="003366"/>
                </a:solidFill>
                <a:latin typeface="Symbol"/>
                <a:ea typeface="Symbol"/>
              </a:rPr>
              <a:t></a:t>
            </a:r>
            <a:r>
              <a:rPr b="1" lang="en-US" sz="2800" spc="-1" strike="noStrike">
                <a:solidFill>
                  <a:srgbClr val="003366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 baseline="-25000">
                <a:solidFill>
                  <a:srgbClr val="003366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&gt; </a:t>
            </a:r>
            <a:r>
              <a:rPr b="0" lang="en-US" sz="2800" spc="-1" strike="noStrike">
                <a:solidFill>
                  <a:srgbClr val="003366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AFT: Copyright G A Tagliarini, Ph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C373B-E6CF-44A4-8521-1F4EAB97974E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44DBC1-40BE-441E-99B8-A69FD215067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K-Means Algorithm: Not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itial means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ay be chosen randoml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ay be selected from the data vectors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3366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uster discriminant function 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f d(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3366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 baseline="-25000">
                <a:solidFill>
                  <a:srgbClr val="003366"/>
                </a:solidFill>
                <a:latin typeface="Arial"/>
              </a:rPr>
              <a:t>m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)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≤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d(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3366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 baseline="-25000">
                <a:solidFill>
                  <a:srgbClr val="003366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) for all j </a:t>
            </a: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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m, </a:t>
            </a:r>
            <a:br>
              <a:rPr sz="2400"/>
            </a:b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en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3366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is in cluster m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ew means are the averages of the vectors assigned to each clust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AFT: Copyright G A Tagliarini, Ph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4C60F-DC38-4B64-AAE0-28830F4F715E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0F27B3-D633-4A25-B45D-F89E3589201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K-Means Algorithm: A Cluster Assignment Matrix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315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 matrix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U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 row r = 1,…,k for each of the k clusters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 column c = 1,…, n for each of the n data vector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entries U</a:t>
            </a:r>
            <a:r>
              <a:rPr b="0" lang="en-US" sz="2800" spc="-1" strike="noStrike" baseline="-25000">
                <a:solidFill>
                  <a:srgbClr val="003366"/>
                </a:solidFill>
                <a:latin typeface="Arial"/>
              </a:rPr>
              <a:t>rc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re each binary value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U</a:t>
            </a:r>
            <a:r>
              <a:rPr b="0" lang="en-US" sz="2400" spc="-1" strike="noStrike" baseline="-25000">
                <a:solidFill>
                  <a:srgbClr val="003366"/>
                </a:solidFill>
                <a:latin typeface="Arial"/>
              </a:rPr>
              <a:t>rc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= 1, if x</a:t>
            </a:r>
            <a:r>
              <a:rPr b="0" lang="en-US" sz="2400" spc="-1" strike="noStrike" baseline="-25000">
                <a:solidFill>
                  <a:srgbClr val="003366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is assigned to cluster 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U</a:t>
            </a:r>
            <a:r>
              <a:rPr b="0" lang="en-US" sz="2400" spc="-1" strike="noStrike" baseline="-25000">
                <a:solidFill>
                  <a:srgbClr val="003366"/>
                </a:solidFill>
                <a:latin typeface="Arial"/>
              </a:rPr>
              <a:t>rc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= 0, if x</a:t>
            </a:r>
            <a:r>
              <a:rPr b="0" lang="en-US" sz="2400" spc="-1" strike="noStrike" baseline="-25000">
                <a:solidFill>
                  <a:srgbClr val="003366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is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not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assigned to cluster 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ach column must sum to 1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AFT: Copyright G A Tagliarini, Ph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DD9B0-9A77-4912-8F64-B3D245FA31AD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C0621B-7FA6-45D4-AFE7-FD5C44D64E3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K-Means Algorithm: A Cluster Assignment Matrix Example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1143000" y="2666880"/>
                <a:ext cx="7010280" cy="314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AFT: Copyright G A Tagliarini, PhD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13321-DBB9-40AE-B22B-845AD298BBA7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0D3239-F30C-4F79-AD7D-E0AF06B8EAA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0000"/>
                </a:solidFill>
                <a:uFillTx/>
                <a:latin typeface="Arial"/>
              </a:rPr>
              <a:t>Fuzzy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 K-Means Algorithm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.k.a., fuzzy C-means cluster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milar to k-means cluster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ifferent because </a:t>
            </a:r>
            <a:r>
              <a:rPr b="0" i="1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fuzzy membership grades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are used in the cluster assignment matrix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AFT: Copyright G A Tagliarini, Ph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773A4-6276-49AD-8F59-B1BA06DA21C7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405593-C42A-4DB4-B6D7-6CF8A008B92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8T23:24:43Z</dcterms:created>
  <dc:creator>Dept of Computer Science</dc:creator>
  <dc:description/>
  <dc:language>en-US</dc:language>
  <cp:lastModifiedBy>Dept of Computer Science</cp:lastModifiedBy>
  <dcterms:modified xsi:type="dcterms:W3CDTF">2004-04-04T22:12:28Z</dcterms:modified>
  <cp:revision>7</cp:revision>
  <dc:subject/>
  <dc:title>Clustering Techniq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